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AC5-6F6C-4E57-9F66-F8DCEC4C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7F9-859E-4A47-AC1C-36F5314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BBA-AD41-46F4-9F6E-24976860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666-4025-42C8-A306-11AD8A34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F3D-872E-4567-8DCB-C3051A8E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5C7-80D2-4766-8D50-563D6EF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D97-EE28-458E-AF09-28ACA7B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5F9-A34E-40CB-97EE-F65E296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086-C671-4D22-B174-CE891638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439-85FA-4E80-9F0D-365ABB0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FB8-43F6-41F8-B105-FD7D5B1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E7F-F8D0-433C-A3C2-577474D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2022-49A1-42E7-A3D0-AFF93FDE3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b808f3"/>
                </a:solidFill>
                <a:latin typeface="Palatino"/>
              </a:rPr>
              <a:t>Phys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Readers look for and recognize the physical features of feature 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What you have in front of you is a feature artic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6576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8f3"/>
                </a:solidFill>
                <a:latin typeface="Palatino"/>
              </a:rPr>
              <a:t>Make a list of how this is different from other things you have r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8f3"/>
                </a:solidFill>
                <a:latin typeface="Palatino"/>
              </a:rPr>
              <a:t>What do you notice about the feature article we are rea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74cb"/>
                </a:solidFill>
                <a:latin typeface="Palatino"/>
              </a:rPr>
              <a:t>Here are some feature article characteristics.  Are any of them used in your feature artic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3733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titles and section 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fac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an excited or chatty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362320"/>
            <a:ext cx="266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tim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paragraphs in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02:25Z</dcterms:created>
  <dc:creator>AAPS</dc:creator>
  <dc:description/>
  <dc:language>en-US</dc:language>
  <cp:lastModifiedBy>AAPS</cp:lastModifiedBy>
  <cp:lastPrinted>2005-10-17T17:03:21Z</cp:lastPrinted>
  <dcterms:modified xsi:type="dcterms:W3CDTF">2005-10-20T00:09:21Z</dcterms:modified>
  <cp:revision>10</cp:revision>
  <dc:subject/>
  <dc:title>FEATURE ARTICLE CHARACTERISTICS</dc:title>
</cp:coreProperties>
</file>